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3.wmf" ContentType="image/x-wmf"/>
  <Override PartName="/ppt/media/image9.jpeg" ContentType="image/jpeg"/>
  <Override PartName="/ppt/media/image11.png" ContentType="image/png"/>
  <Override PartName="/ppt/media/image3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2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10.png" ContentType="image/png"/>
  <Override PartName="/ppt/media/image30.png" ContentType="image/png"/>
  <Override PartName="/ppt/media/image28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22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D0E5-B49C-4299-BA48-CB1A1718F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2739-DD9E-46AF-88E3-5779ECA1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CE3A-0408-440A-BC3A-A0BB7D12A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D408-B9A7-4A60-B55A-C8C27DFAA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9297-7294-4558-8586-FD5196872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9415-C054-4884-9356-138F1746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95B37-232B-42EE-9D3F-59ADCDE9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5AE1-2A49-43DA-BB13-FA63729E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442C7-C3AD-4BF9-9314-25C53E11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6AE8-1F91-4CCB-B22A-7E8B6EB8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297D-F2A3-4A44-8D85-196893C6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2E75-35AD-4937-92F9-E23EA1E7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A261-75B0-4A2E-B0B9-A9701A36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06D7-56C4-46D3-B828-A7260460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BBBED-737A-4083-AF06-A1C00E86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E90B5-BEF4-4385-A2AF-A54A451D6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934B-62C8-49FC-B878-686489118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30A49-6272-4D28-97CB-B6B57AAA0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12DD7-34C5-4CAC-B9AD-DB35CF14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2869E-064D-41EB-BABB-9B670638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952F6-DBCB-4D4B-B31B-B05963A8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8A871-86F6-47F4-BB59-AA1ACEB6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FD02-53AC-4C00-8688-39960D44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44688-B145-48D3-9E0E-AC1F71A7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89956-26CE-4608-AD6A-FBB74D8A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A60BE-D772-4D64-ABB9-25917B00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47D32-C380-4E4A-B96B-4A0EDB87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C2BA9-F34A-4DD1-97CF-604E4986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D4704-EA9B-42E6-82F9-256827013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1AD77-0FF1-4805-99FB-3EB9B1AA3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28B32-15FA-4506-81C0-5947989BC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F5358-8695-4DB8-AF60-E812295F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F15DC-5818-4FF1-9FFC-14771492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F5A2-9FF2-48D1-9F13-95E591C0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881A1-C5A2-4D20-B7F5-6E3E8A79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A1A4C-939C-4344-BC39-7CA41E87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9FB09-87E3-4D18-9B01-013C286C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75232-8B10-440B-A529-FF585BB7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0B17C-02E4-4903-A671-6146EEBC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D060E-87A0-4B2D-AB57-0BB1D728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35C22-DC04-44BC-9319-84352A64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D7AC9-2D47-4A23-9164-A1CE36C2B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39CF8-672D-4F1E-8972-8AE596EFF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64827-EAB2-4340-8060-8FB821A12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72B7-6943-444D-86A8-0CEF6106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0EBA0-78E3-4570-B5C5-BA34CB0B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47429-2BA8-447D-BA6D-911124E5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4548B-F1E3-46F6-BCBC-7CE20275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3B2D7-57FC-4913-A119-0CFFB947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8A03B-AAFC-4194-8D46-790EA7D5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071E1-AF6F-48A2-AF5F-AE107118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BAC7E-090A-447F-8813-2AF0E725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E1BE5-F6A1-4EDA-AAAA-A5F98FBC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8927C-F567-4765-9E0B-47C92C74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1F0B6-77D9-4EF5-BDBD-10081897E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9B95-519D-4D22-B3F1-BA8BE12D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D0ABC-22F2-4EDC-AD1D-D3D113F0E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5C511-1029-434C-9401-A3121D42C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6BC27-2FB7-4B51-B087-4C6541D0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F55C3-F4C3-4C64-BA70-0B74268E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4E601-A47B-4AB7-8CD3-01247990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F0C30-4CC5-4F55-BD52-B9CD432E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216BB-F472-439C-BB31-C214BF92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906DC-0048-4964-9D3D-0FD6E687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053C7-78E0-42CD-80CD-2D0D088A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384BA-A882-4C52-AAD2-A43CDE49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07F4-B964-4BF5-A3C2-26F314AC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A1F59-018F-44FD-9869-4F0A678A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7886A-4475-4CE2-BE49-A466B1B74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78CAC-C3BB-497E-9947-A61214C85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2D12C-5939-450E-8761-0F6FB0100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91CBD-876E-4832-9B96-6F32B256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71A0A-1ADC-4661-B5F0-30963300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0FB3A-32F5-4E99-BB19-EECF8F3E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1759B-1E4B-4868-88AF-29944D91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C4E07-0134-4E55-8472-B07F90FE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6C5C6-68B1-4DED-A031-DADDC900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F95F-CFB9-4041-B1B0-EC2CF5AC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ECAD1-200C-42F7-95F1-FA87FC12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C3B3F-5AB6-4934-A795-907A0744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9BB35-32F1-4C56-8BF4-013BBB78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FDB51-97AC-4234-B4E2-5C8F71DC6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A5682-2E70-458D-8DE6-71637665E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FD7EA-17B1-4E47-809E-9606C57F8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4141D-F7C2-42DF-B005-C4C5DB48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D1ACA-CFFD-4C48-88B4-E12BBC62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E1E8B-C055-4FC6-8A12-EC444ADD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4A5B0-78E7-4215-BF18-B2AFF90E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078C-ECAF-46B4-80C1-43C3C4A2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2D628-3323-470A-8B01-A9C9268E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CDF23-2E60-4A9C-8F7F-34CB34F8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0695A-B600-4A21-BC63-3A9B5DA3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DE7F1-6C7A-4111-AD35-A125E446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E7D7A-0F30-4283-9607-CA467A34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77B10-0EA8-4C78-80D3-83D89BD81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696FD-6444-440D-80A4-4FD958348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0F28-553A-4F10-99D8-F178C68DAA82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2D52-6277-427D-A438-18258AFFF218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60DA-8C1F-4FC5-8020-C62B0110F04A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18C7-B1A9-44B5-A258-DE403B1B983B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A65F-81F4-46CF-9060-1D93B81E9588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FD7A-B8DA-4768-9F16-3EFC4D179756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22DD-A4C4-4795-93B5-8F7F7B40BB66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EE4A-2DEE-49D2-8091-2865B7330464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nfourok.ru/go.html?href=http%3A%2F%2Fwww.theanimalworld.ru%2Fbooks%2Fbook-3%2F" TargetMode="External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642600" y="1071360"/>
            <a:ext cx="7072200" cy="3500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32323"/>
                </a:solidFill>
                <a:latin typeface="Times New Roman"/>
                <a:ea typeface="Times New Roman"/>
              </a:rPr>
              <a:t>Исследовательская работа на тему: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32323"/>
                </a:solidFill>
                <a:latin typeface="Times New Roman"/>
                <a:ea typeface="Times New Roman"/>
              </a:rPr>
              <a:t>«Бездомные собаки как одна из экологических проблем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32323"/>
                </a:solidFill>
                <a:latin typeface="Times New Roman"/>
                <a:ea typeface="Times New Roman"/>
              </a:rPr>
              <a:t>поселка Строитель»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Picture 2" descr="http://1.bp.blogspot.com/-2feZxnIDLLQ/VqoZfPZr0EI/AAAAAAAAACM/qr1yszLYqxk/s1600/%25D1%2581%25D0%25BE%25D0%25B1%25D0%25B0%25D1%2587%25D0%25BA%25D0%25B0.png"/>
          <p:cNvPicPr/>
          <p:nvPr/>
        </p:nvPicPr>
        <p:blipFill>
          <a:blip r:embed="rId1"/>
          <a:stretch/>
        </p:blipFill>
        <p:spPr>
          <a:xfrm>
            <a:off x="6826320" y="2214720"/>
            <a:ext cx="2317680" cy="3474720"/>
          </a:xfrm>
          <a:prstGeom prst="rect">
            <a:avLst/>
          </a:prstGeom>
          <a:ln w="0">
            <a:noFill/>
          </a:ln>
        </p:spPr>
      </p:pic>
      <p:sp>
        <p:nvSpPr>
          <p:cNvPr id="372" name="Прямоугольник 3"/>
          <p:cNvSpPr/>
          <p:nvPr/>
        </p:nvSpPr>
        <p:spPr>
          <a:xfrm>
            <a:off x="2143080" y="5857920"/>
            <a:ext cx="678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32323"/>
                </a:solidFill>
                <a:latin typeface="Times New Roman"/>
                <a:ea typeface="Times New Roman"/>
              </a:rPr>
              <a:t>Работу выполнила  команд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«Юные знатоки природ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AutoShape 1" descr=""/>
          <p:cNvPicPr/>
          <p:nvPr/>
        </p:nvPicPr>
        <p:blipFill>
          <a:blip r:embed="rId1"/>
          <a:stretch/>
        </p:blipFill>
        <p:spPr>
          <a:xfrm>
            <a:off x="426960" y="176040"/>
            <a:ext cx="8296200" cy="128124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9" name="Object 1"/>
          <p:cNvGraphicFramePr/>
          <p:nvPr/>
        </p:nvGraphicFramePr>
        <p:xfrm>
          <a:off x="428760" y="1714680"/>
          <a:ext cx="4286160" cy="278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0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8760" y="1714680"/>
                    <a:ext cx="428616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2" name="Object 3"/>
          <p:cNvGraphicFramePr/>
          <p:nvPr/>
        </p:nvGraphicFramePr>
        <p:xfrm>
          <a:off x="4714920" y="1571760"/>
          <a:ext cx="4019400" cy="3071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3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14920" y="1571760"/>
                    <a:ext cx="4019400" cy="30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Прямоугольник 8"/>
          <p:cNvSpPr/>
          <p:nvPr/>
        </p:nvSpPr>
        <p:spPr>
          <a:xfrm>
            <a:off x="214200" y="4572000"/>
            <a:ext cx="8429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анкетирования показали,  что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обеих возраст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2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 к бездомным собакам относятся положительно, большинство взя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2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 их к себе домой. Но группа 6 класса честно разделилась на две групп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2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 относятся к бездомным собакам более положите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2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285840" y="1714320"/>
            <a:ext cx="8501040" cy="42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айте губернатора мы нашли несколько писем – жалоб от жителей, что в  нашем поселке много бездомных собак.  Поэтому нами было  проведено анкетирование среди жителей п. Строитель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ирование жителей п. Строитель по вопросу «Возросло или уменьшилось количество бездомных собак?» (50 человек)     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% считают, что число бездомных собак не изменилось по сравнению с прошлым годом, 13% считают, что бездомных собак в поселке нет, 43%, что увеличилось, 9% уменьшилось, 9% затруднились ответить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ая проблема вызывает большой интерес жителей п.Строитель. Они проявляют гуманность к бездомным животным и заинтересованы в ее решени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AutoShape 1" descr=""/>
          <p:cNvPicPr/>
          <p:nvPr/>
        </p:nvPicPr>
        <p:blipFill>
          <a:blip r:embed="rId1"/>
          <a:stretch/>
        </p:blipFill>
        <p:spPr>
          <a:xfrm>
            <a:off x="182520" y="201600"/>
            <a:ext cx="878544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AutoShape 1"/>
          <p:cNvSpPr/>
          <p:nvPr/>
        </p:nvSpPr>
        <p:spPr>
          <a:xfrm>
            <a:off x="214200" y="274680"/>
            <a:ext cx="8715600" cy="1511280"/>
          </a:xfrm>
          <a:custGeom>
            <a:avLst/>
            <a:gdLst>
              <a:gd name="textAreaLeft" fmla="*/ 2178720 w 8715600"/>
              <a:gd name="textAreaRight" fmla="*/ 6536880 w 8715600"/>
              <a:gd name="textAreaTop" fmla="*/ 0 h 1511280"/>
              <a:gd name="textAreaBottom" fmla="*/ 1322640 h 15112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ff"/>
          </a:solidFill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213840" y="1928880"/>
            <a:ext cx="84726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221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вгусте 2015 года в Тамбове заработал приют для бездомных животных  «Доброе сердце». Он принадлежит некоммерческой организации и существует на пожертвования. На средства гранта зоозащитники расчистили и огородили территорию на улице Московская, построили вольеры, работает административный корпус, будет карантинный блок. Всего приют может принять до полусотни собак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Заголовок 2" descr=""/>
          <p:cNvPicPr/>
          <p:nvPr/>
        </p:nvPicPr>
        <p:blipFill>
          <a:blip r:embed="rId1"/>
          <a:stretch/>
        </p:blipFill>
        <p:spPr>
          <a:xfrm>
            <a:off x="2206800" y="92160"/>
            <a:ext cx="4657680" cy="14508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http://s.vtambove.ru/localStorage/news/8b/d3/0d/a./8bd30da_resizedScaled_817to612.jpg"/>
          <p:cNvPicPr/>
          <p:nvPr/>
        </p:nvPicPr>
        <p:blipFill>
          <a:blip r:embed="rId2"/>
          <a:stretch/>
        </p:blipFill>
        <p:spPr>
          <a:xfrm>
            <a:off x="3000240" y="4000680"/>
            <a:ext cx="3571920" cy="267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214200" y="1213920"/>
            <a:ext cx="87156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в проблему бездомных животных, пришли к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 с решением данной проблемы отдельному человеку не справиться, каким бы добрым и жалостливым он не был. Думаем начинать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данной проблем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лжны с поправки в Федеральный закон «О защите животных от жестокого обращения»,  в городах открывать приюты, повысить ответственность владельцев собак и кошек за соблюдением правил содержания животных; проводить воспитательную работу среди населения и особенно детей среднего школьного возраста о толерантном отношении к нашим «братьям меньшим»; проводить стерилизацию животных; проводить постоянные акции среди школьников и жителей области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AutoShape 1" descr=""/>
          <p:cNvPicPr/>
          <p:nvPr/>
        </p:nvPicPr>
        <p:blipFill>
          <a:blip r:embed="rId1"/>
          <a:stretch/>
        </p:blipFill>
        <p:spPr>
          <a:xfrm>
            <a:off x="426960" y="176040"/>
            <a:ext cx="8296200" cy="10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285480" y="1481040"/>
            <a:ext cx="84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ь к реальному благополучию животных намного дольше и труднее, чем кажется многим нашим нетерпеливым или сентиментальным защитникам животных. Гуманность не возникает сама собой из принятия наивного «гуманного» закона. Гуманность возникает, когда в ее сторону изменяется реальная жизнь, пусть даже медленно. Животные – наши друзья! Они нужны нам, мы нужны им. И как сказал де Сент-Экзюпери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ы в ответе за тех, кого приручили»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AutoShape 1" descr=""/>
          <p:cNvPicPr/>
          <p:nvPr/>
        </p:nvPicPr>
        <p:blipFill>
          <a:blip r:embed="rId1"/>
          <a:stretch/>
        </p:blipFill>
        <p:spPr>
          <a:xfrm>
            <a:off x="426960" y="176040"/>
            <a:ext cx="8296200" cy="11462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" descr="http://cs616730.vk.me/v616730042/2518/ywLSB_j8Ay0.jpg"/>
          <p:cNvPicPr/>
          <p:nvPr/>
        </p:nvPicPr>
        <p:blipFill>
          <a:blip r:embed="rId2"/>
          <a:stretch/>
        </p:blipFill>
        <p:spPr>
          <a:xfrm>
            <a:off x="6500880" y="4572000"/>
            <a:ext cx="171432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AutoShape 1"/>
          <p:cNvSpPr/>
          <p:nvPr/>
        </p:nvSpPr>
        <p:spPr>
          <a:xfrm>
            <a:off x="142920" y="274680"/>
            <a:ext cx="8715240" cy="1225440"/>
          </a:xfrm>
          <a:custGeom>
            <a:avLst/>
            <a:gdLst>
              <a:gd name="textAreaLeft" fmla="*/ 2178720 w 8715240"/>
              <a:gd name="textAreaRight" fmla="*/ 6536520 w 8715240"/>
              <a:gd name="textAreaTop" fmla="*/ 0 h 1225440"/>
              <a:gd name="textAreaBottom" fmla="*/ 1072440 h 12254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ff"/>
          </a:solidFill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213840" y="1785600"/>
            <a:ext cx="85726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а Чаплина «Домашние животные» Издательство: Эксмо Москва 2008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де Сент-Экзюпери «Маленький Принц», 2007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– сайт: </a:t>
            </a:r>
            <a:r>
              <a:rPr b="0" lang="ru-RU" sz="24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1"/>
              </a:rPr>
              <a:t>http://www.theanimalworld.ru/books/book-3/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– сайт: http://ru.vlab.wikia.com/wiki/Бездомные_животны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Заголовок 2" descr=""/>
          <p:cNvPicPr/>
          <p:nvPr/>
        </p:nvPicPr>
        <p:blipFill>
          <a:blip r:embed="rId2"/>
          <a:stretch/>
        </p:blipFill>
        <p:spPr>
          <a:xfrm>
            <a:off x="2206800" y="268200"/>
            <a:ext cx="45543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AutoShape 1"/>
          <p:cNvSpPr/>
          <p:nvPr/>
        </p:nvSpPr>
        <p:spPr>
          <a:xfrm>
            <a:off x="500040" y="285840"/>
            <a:ext cx="8278920" cy="1143000"/>
          </a:xfrm>
          <a:custGeom>
            <a:avLst/>
            <a:gdLst>
              <a:gd name="textAreaLeft" fmla="*/ 2069640 w 8278920"/>
              <a:gd name="textAreaRight" fmla="*/ 6209280 w 8278920"/>
              <a:gd name="textAreaTop" fmla="*/ 0 h 1143000"/>
              <a:gd name="textAreaBottom" fmla="*/ 1000440 h 1143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ff"/>
          </a:solidFill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285840" y="1643040"/>
            <a:ext cx="840096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ая проблема является актуальной и гораздо серьёзнее, чем нам кажется на первый взгляд. Бездомные собаки представляют собой угрозу безопасности населения: они являются переносчиками различных инфекционных заболеваний, в том числе экто - и эндопаразитов, возбудителей кишечных заболеваний и бешенства; отдельные стаи собак регулярно нападают на прохожих, пугают детей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среди современных экологических проблем  особого внимания заслуживает вопрос, связанный с наличием большого количества бездомных собак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считаем, что это серьезная проблема для населенных пунктов, и поэтому не хотим быть равнодушными и по мере возможности  изучить её в рамках своего поселка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https://im0-tub-ru.yandex.net/i?id=c69649a1634c399d6de22ba965e91458&amp;n=33&amp;h=215&amp;w=246"/>
          <p:cNvPicPr/>
          <p:nvPr/>
        </p:nvPicPr>
        <p:blipFill>
          <a:blip r:embed="rId1"/>
          <a:stretch/>
        </p:blipFill>
        <p:spPr>
          <a:xfrm>
            <a:off x="7372440" y="5310360"/>
            <a:ext cx="1771560" cy="1547640"/>
          </a:xfrm>
          <a:prstGeom prst="rect">
            <a:avLst/>
          </a:prstGeom>
          <a:ln w="0">
            <a:noFill/>
          </a:ln>
        </p:spPr>
      </p:pic>
      <p:pic>
        <p:nvPicPr>
          <p:cNvPr id="377" name="AutoShape 1" descr=""/>
          <p:cNvPicPr/>
          <p:nvPr/>
        </p:nvPicPr>
        <p:blipFill>
          <a:blip r:embed="rId2"/>
          <a:stretch/>
        </p:blipFill>
        <p:spPr>
          <a:xfrm>
            <a:off x="426960" y="146160"/>
            <a:ext cx="8296200" cy="1103040"/>
          </a:xfrm>
          <a:prstGeom prst="rect">
            <a:avLst/>
          </a:prstGeom>
          <a:ln w="0">
            <a:noFill/>
          </a:ln>
        </p:spPr>
      </p:pic>
      <p:pic>
        <p:nvPicPr>
          <p:cNvPr id="378" name="AutoShape 1" descr=""/>
          <p:cNvPicPr/>
          <p:nvPr/>
        </p:nvPicPr>
        <p:blipFill>
          <a:blip r:embed="rId3"/>
          <a:stretch/>
        </p:blipFill>
        <p:spPr>
          <a:xfrm>
            <a:off x="396720" y="2152800"/>
            <a:ext cx="8296560" cy="1108080"/>
          </a:xfrm>
          <a:prstGeom prst="rect">
            <a:avLst/>
          </a:prstGeom>
          <a:ln w="0">
            <a:noFill/>
          </a:ln>
        </p:spPr>
      </p:pic>
      <p:sp>
        <p:nvSpPr>
          <p:cNvPr id="379" name="Содержимое 1"/>
          <p:cNvSpPr/>
          <p:nvPr/>
        </p:nvSpPr>
        <p:spPr>
          <a:xfrm>
            <a:off x="357120" y="3429000"/>
            <a:ext cx="822960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научную литературу по данной тем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сти беседу -  консультацию со школьным медицинским работник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ить места обитания бездомных собак в поселк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сти  социологический опрос (анкетирование) населения разных возрастов и разного социального положения с целью выяснения отношения  к проблеме бездомных животных  и путей ее реш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организацию, которая занимается данной проблем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6"/>
          <p:cNvSpPr/>
          <p:nvPr/>
        </p:nvSpPr>
        <p:spPr>
          <a:xfrm>
            <a:off x="642960" y="142884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ь причины, почему собаки становятся бездом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714840" y="356760"/>
            <a:ext cx="521496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домные  животны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ость людей за братьев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их меньших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ая значим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боты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ается в том, что она может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овать уменьшению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а бездомных животных в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ем город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Picture 7" descr="https://ds02.infourok.ru/uploads/ex/109a/00004b31-7c3f6f26/hello_html_m3d432e7e.png"/>
          <p:cNvPicPr/>
          <p:nvPr/>
        </p:nvPicPr>
        <p:blipFill>
          <a:blip r:embed="rId1"/>
          <a:stretch/>
        </p:blipFill>
        <p:spPr>
          <a:xfrm>
            <a:off x="142920" y="714240"/>
            <a:ext cx="3929040" cy="54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71468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этап рабо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а) Выяснить  причины появления бездомных животных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Выявить места обитания бездомных собак в поселке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этап рабо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Провести беседу -  консультацию со школьным        медицинским работником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ознакомиться со статистикой обращения граждан в травматологию им.  Архиепископа Лук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 Провести  социологический опрос  среди обучающихся нашей школы, среди жителей  поселка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Познакомиться с работой приюта для бездомных животных «Доброе сердце».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этап рабо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а) Обработка результатов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Выводы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AutoShape 1" descr=""/>
          <p:cNvPicPr/>
          <p:nvPr/>
        </p:nvPicPr>
        <p:blipFill>
          <a:blip r:embed="rId1"/>
          <a:stretch/>
        </p:blipFill>
        <p:spPr>
          <a:xfrm>
            <a:off x="426960" y="165240"/>
            <a:ext cx="8296200" cy="15174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5" descr="http://www.playcast.ru/uploads/2016/09/15/19900551.png"/>
          <p:cNvPicPr/>
          <p:nvPr/>
        </p:nvPicPr>
        <p:blipFill>
          <a:blip r:embed="rId2"/>
          <a:stretch/>
        </p:blipFill>
        <p:spPr>
          <a:xfrm>
            <a:off x="7143840" y="5214960"/>
            <a:ext cx="15001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64268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ые  быстро размножаются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тветственность владельцев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зяева, уезжая в отпуск, выгоняют животных на улицу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ялись или убежали от хозяев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крытые мусорные баки с остатками еды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приютов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учета домашних животных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AutoShape 1" descr=""/>
          <p:cNvPicPr/>
          <p:nvPr/>
        </p:nvPicPr>
        <p:blipFill>
          <a:blip r:embed="rId1"/>
          <a:stretch/>
        </p:blipFill>
        <p:spPr>
          <a:xfrm>
            <a:off x="426960" y="176040"/>
            <a:ext cx="8296200" cy="12812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https://img-fotki.yandex.ru/get/5007/50114850.5d7/0_e2db0_5faae7bf_S"/>
          <p:cNvPicPr/>
          <p:nvPr/>
        </p:nvPicPr>
        <p:blipFill>
          <a:blip r:embed="rId2"/>
          <a:stretch/>
        </p:blipFill>
        <p:spPr>
          <a:xfrm>
            <a:off x="6357960" y="3643200"/>
            <a:ext cx="2286000" cy="29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AutoShape 1"/>
          <p:cNvSpPr/>
          <p:nvPr/>
        </p:nvSpPr>
        <p:spPr>
          <a:xfrm>
            <a:off x="142920" y="214200"/>
            <a:ext cx="9001080" cy="1214640"/>
          </a:xfrm>
          <a:custGeom>
            <a:avLst/>
            <a:gdLst>
              <a:gd name="textAreaLeft" fmla="*/ 2250000 w 9001080"/>
              <a:gd name="textAreaRight" fmla="*/ 6751080 w 9001080"/>
              <a:gd name="textAreaTop" fmla="*/ 0 h 1214640"/>
              <a:gd name="textAreaBottom" fmla="*/ 1063080 h 12146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ff"/>
          </a:solidFill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85480" y="1499760"/>
            <a:ext cx="86439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беседы с медицинским работником нашей школы мы узнали, что бездомные собаки являются носителями инфекционных заболеваний.  Бездомные собаки заболевают  такими  заразными, опасными болезнями, как чума    плотоядных – одна из самых опасных вирусных болезней собак, бешенство, респираторная аденовирусная инфекция – гепатит, конъюнктивит, одышка, кашель, парвовирусная инфекция собак – внутриутробное заражение плода.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выявили местообитания бездомных собак в нашем поселке  – это территории Промзоны поселка Строитель, рынка Центрального микрорайона, участки дач, места для мусор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Заголовок 2" descr=""/>
          <p:cNvPicPr/>
          <p:nvPr/>
        </p:nvPicPr>
        <p:blipFill>
          <a:blip r:embed="rId1"/>
          <a:stretch/>
        </p:blipFill>
        <p:spPr>
          <a:xfrm>
            <a:off x="2494080" y="231840"/>
            <a:ext cx="421776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285840" y="1642680"/>
            <a:ext cx="84009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следнее время в Тамбове участились случаи нападения бездомных собак на людей.  В прошлом году в травматологию им. Архиепископа Луки обратились 57 тамбовчан, которых покусали бродячие собаки, и 50 человек, на которых напали уличные кошки. В семи случаях у животных было обнаружено инфекционное заболевание бешенством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AutoShape 1" descr=""/>
          <p:cNvPicPr/>
          <p:nvPr/>
        </p:nvPicPr>
        <p:blipFill>
          <a:blip r:embed="rId1"/>
          <a:stretch/>
        </p:blipFill>
        <p:spPr>
          <a:xfrm>
            <a:off x="109440" y="208080"/>
            <a:ext cx="8858520" cy="1187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http://vet-matroskin.ru/assets/images/Dogs_Dogue_de_Bordeaux_455570.jpg"/>
          <p:cNvPicPr/>
          <p:nvPr/>
        </p:nvPicPr>
        <p:blipFill>
          <a:blip r:embed="rId2"/>
          <a:stretch/>
        </p:blipFill>
        <p:spPr>
          <a:xfrm>
            <a:off x="5054760" y="3857760"/>
            <a:ext cx="3349440" cy="27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214200" y="1714320"/>
            <a:ext cx="8715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ли практически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реди ребят нашего класса и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хся  6 класса нашей школы.  Их вниманию были предложены 4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а с вариантами ответа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Имеете ли Вы домашнего питомца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а                                 Б)  нет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 относитесь к бездомным собакам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 с жалостью                Б)  равнодушно                        В) с агрессией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огласились ли Вы взять домой бездомную собаку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да                                 Б)  нет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Как надо поступать с бездомными животными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организовать приюты          Б) усилить надзор за хозяевами домашних      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свой вариант ответ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AutoShape 1" descr=""/>
          <p:cNvPicPr/>
          <p:nvPr/>
        </p:nvPicPr>
        <p:blipFill>
          <a:blip r:embed="rId1"/>
          <a:stretch/>
        </p:blipFill>
        <p:spPr>
          <a:xfrm>
            <a:off x="426960" y="176040"/>
            <a:ext cx="82962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8T12:37:17Z</dcterms:created>
  <dc:creator>Карина</dc:creator>
  <dc:description/>
  <dc:language>en-US</dc:language>
  <cp:lastModifiedBy>Карина</cp:lastModifiedBy>
  <dcterms:modified xsi:type="dcterms:W3CDTF">2017-02-28T18:16:03Z</dcterms:modified>
  <cp:revision>22</cp:revision>
  <dc:subject/>
  <dc:title>Слайд 1</dc:title>
</cp:coreProperties>
</file>